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668-B368-4784-9ED0-602E326A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84B-181C-4E1A-A092-134E47E9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17A-31E6-4758-A13C-A1BA3B11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95B-9CF9-4FAA-91EE-41D4B696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261-18C0-4AA6-BC61-2E338A9B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A22-4C57-4C27-80A6-9FC1F3B7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F3F-8615-4D99-8DA8-DFA70EBC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9A1-221D-45E7-A578-34BCA805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D52-9315-4078-99CE-9EB213C7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E36-E56B-4087-BC63-47B0140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ED0-17B0-48DA-B0B9-5B151B5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6AD-57CB-41E2-91D2-A15B42F1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D18-1BC5-4468-B357-17DDE06A6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7046280"/>
            <a:chOff x="0" y="0"/>
            <a:chExt cx="9144000" cy="70462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7046280"/>
              <a:chOff x="0" y="0"/>
              <a:chExt cx="9144000" cy="70462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9144000" cy="7046280"/>
                <a:chOff x="0" y="0"/>
                <a:chExt cx="9144000" cy="7046280"/>
              </a:xfrm>
            </p:grpSpPr>
            <p:pic>
              <p:nvPicPr>
                <p:cNvPr id="4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704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" descr=""/>
                <p:cNvPicPr/>
                <p:nvPr/>
              </p:nvPicPr>
              <p:blipFill>
                <a:blip r:embed="rId2"/>
                <a:srcRect l="61255" t="2830" r="20593" b="59172"/>
                <a:stretch/>
              </p:blipFill>
              <p:spPr>
                <a:xfrm>
                  <a:off x="6516720" y="0"/>
                  <a:ext cx="2305080" cy="2975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" descr=""/>
              <p:cNvPicPr/>
              <p:nvPr/>
            </p:nvPicPr>
            <p:blipFill>
              <a:blip r:embed="rId3"/>
              <a:srcRect l="83473" t="40865" r="0" b="35640"/>
              <a:stretch/>
            </p:blipFill>
            <p:spPr>
              <a:xfrm>
                <a:off x="6372360" y="2997000"/>
                <a:ext cx="1511280" cy="1655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" name="" descr=""/>
            <p:cNvPicPr/>
            <p:nvPr/>
          </p:nvPicPr>
          <p:blipFill>
            <a:blip r:embed="rId4"/>
            <a:srcRect l="43318" t="61955" r="44081" b="25795"/>
            <a:stretch/>
          </p:blipFill>
          <p:spPr>
            <a:xfrm>
              <a:off x="5040360" y="4465440"/>
              <a:ext cx="1296720" cy="79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3959280" y="2665440"/>
              <a:ext cx="2449440" cy="1800000"/>
              <a:chOff x="3959280" y="2665440"/>
              <a:chExt cx="2449440" cy="1800000"/>
            </a:xfrm>
          </p:grpSpPr>
          <p:pic>
            <p:nvPicPr>
              <p:cNvPr id="49" name="" descr=""/>
              <p:cNvPicPr/>
              <p:nvPr/>
            </p:nvPicPr>
            <p:blipFill>
              <a:blip r:embed="rId5"/>
              <a:srcRect l="33074" t="40865" r="56684" b="41768"/>
              <a:stretch/>
            </p:blipFill>
            <p:spPr>
              <a:xfrm>
                <a:off x="3959280" y="2665440"/>
                <a:ext cx="1101600" cy="165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6"/>
              <a:srcRect l="33074" t="40865" r="56684" b="41768"/>
              <a:stretch/>
            </p:blipFill>
            <p:spPr>
              <a:xfrm>
                <a:off x="5040360" y="2808360"/>
                <a:ext cx="1368360" cy="165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" name="Rectangle 16"/>
          <p:cNvSpPr/>
          <p:nvPr/>
        </p:nvSpPr>
        <p:spPr>
          <a:xfrm>
            <a:off x="179280" y="7650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部编教材小学语文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9" descr="0009"/>
          <p:cNvPicPr/>
          <p:nvPr/>
        </p:nvPicPr>
        <p:blipFill>
          <a:blip r:embed="rId7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3276720" y="213372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语文园地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501120" cy="7345440"/>
            <a:chOff x="0" y="0"/>
            <a:chExt cx="9501120" cy="7345440"/>
          </a:xfrm>
        </p:grpSpPr>
        <p:grpSp>
          <p:nvGrpSpPr>
            <p:cNvPr id="250" name=""/>
            <p:cNvGrpSpPr/>
            <p:nvPr/>
          </p:nvGrpSpPr>
          <p:grpSpPr>
            <a:xfrm>
              <a:off x="0" y="0"/>
              <a:ext cx="9501120" cy="7345440"/>
              <a:chOff x="0" y="0"/>
              <a:chExt cx="9501120" cy="7345440"/>
            </a:xfrm>
          </p:grpSpPr>
          <p:pic>
            <p:nvPicPr>
              <p:cNvPr id="251" name="Picture 7" descr="底"/>
              <p:cNvPicPr/>
              <p:nvPr/>
            </p:nvPicPr>
            <p:blipFill>
              <a:blip r:embed="rId1"/>
              <a:srcRect l="0" t="0" r="755" b="0"/>
              <a:stretch/>
            </p:blipFill>
            <p:spPr>
              <a:xfrm>
                <a:off x="0" y="0"/>
                <a:ext cx="9501120" cy="73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0"/>
                <a:ext cx="2073240" cy="213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"/>
            <p:cNvSpPr/>
            <p:nvPr/>
          </p:nvSpPr>
          <p:spPr>
            <a:xfrm>
              <a:off x="900000" y="292428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è  yú     bō  luó   luò tuo       l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yā  lí      wū  yā    jú   zi      mǎ y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00000" y="299736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16360" y="2997360"/>
              <a:ext cx="1800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03640" y="2997360"/>
              <a:ext cx="180036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393372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7640" y="3860640"/>
              <a:ext cx="165564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3640" y="3860640"/>
              <a:ext cx="180036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93080" y="299736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393372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4"/>
          <p:cNvSpPr/>
          <p:nvPr/>
        </p:nvSpPr>
        <p:spPr>
          <a:xfrm>
            <a:off x="2340000" y="1052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同类的事物涂上相同的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198900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1989000"/>
            <a:ext cx="165600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299736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2997360"/>
            <a:ext cx="1800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299736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93080" y="299736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393372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386064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3860640"/>
            <a:ext cx="180036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393372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-243000"/>
            <a:ext cx="9682200" cy="7345440"/>
            <a:chOff x="0" y="-243000"/>
            <a:chExt cx="9682200" cy="7345440"/>
          </a:xfrm>
        </p:grpSpPr>
        <p:pic>
          <p:nvPicPr>
            <p:cNvPr id="274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0" y="-243000"/>
              <a:ext cx="968220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2340000" cy="15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文本框 4"/>
          <p:cNvSpPr/>
          <p:nvPr/>
        </p:nvSpPr>
        <p:spPr>
          <a:xfrm>
            <a:off x="2556000" y="620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16360" y="1052640"/>
            <a:ext cx="3959280" cy="1152360"/>
          </a:xfrm>
          <a:prstGeom prst="cloudCallout">
            <a:avLst>
              <a:gd name="adj1" fmla="val -3989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还会说：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、花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2565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  打  马  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393372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  地  你  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5229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目  不  足  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2492280"/>
            <a:ext cx="792360" cy="792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40360" y="3500280"/>
            <a:ext cx="863640" cy="1081080"/>
            <a:chOff x="5940360" y="3500280"/>
            <a:chExt cx="863640" cy="1081080"/>
          </a:xfrm>
        </p:grpSpPr>
        <p:sp>
          <p:nvSpPr>
            <p:cNvPr id="283" name=""/>
            <p:cNvSpPr/>
            <p:nvPr/>
          </p:nvSpPr>
          <p:spPr>
            <a:xfrm>
              <a:off x="5940360" y="3717720"/>
              <a:ext cx="863640" cy="86364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84720" y="3500280"/>
              <a:ext cx="57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012000" y="5013360"/>
            <a:ext cx="792000" cy="79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2852640"/>
            <a:ext cx="180000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40360" y="2923920"/>
            <a:ext cx="1726920" cy="259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4221000"/>
            <a:ext cx="187164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88000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2847960" cy="209556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4"/>
          <p:cNvSpPr/>
          <p:nvPr/>
        </p:nvSpPr>
        <p:spPr>
          <a:xfrm>
            <a:off x="2195640" y="333360"/>
            <a:ext cx="59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大人一起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547640" y="2349360"/>
            <a:ext cx="5614920" cy="1584360"/>
            <a:chOff x="1547640" y="2349360"/>
            <a:chExt cx="5614920" cy="1584360"/>
          </a:xfrm>
        </p:grpSpPr>
        <p:sp>
          <p:nvSpPr>
            <p:cNvPr id="294" name=""/>
            <p:cNvSpPr/>
            <p:nvPr/>
          </p:nvSpPr>
          <p:spPr>
            <a:xfrm>
              <a:off x="1547640" y="2420640"/>
              <a:ext cx="5472000" cy="15130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4"/>
            <p:cNvSpPr/>
            <p:nvPr/>
          </p:nvSpPr>
          <p:spPr>
            <a:xfrm>
              <a:off x="2266560" y="2349360"/>
              <a:ext cx="489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回家后，和爸爸妈妈一起读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《剪窗花》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508480" cy="2368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132000" y="4292640"/>
            <a:ext cx="3048120" cy="2095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539640" y="4076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050920" y="1773360"/>
            <a:ext cx="49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2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2916360" y="4910040"/>
            <a:ext cx="2960640" cy="194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771640" cy="17319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-324000" y="1125360"/>
            <a:ext cx="1204560" cy="1224000"/>
            <a:chOff x="-324000" y="1125360"/>
            <a:chExt cx="1204560" cy="122400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-324000" y="1125360"/>
              <a:ext cx="1204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-91440" y="1341360"/>
              <a:ext cx="92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1280" y="549360"/>
            <a:ext cx="1247400" cy="1287000"/>
            <a:chOff x="611280" y="549360"/>
            <a:chExt cx="1247400" cy="128700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611280" y="549360"/>
              <a:ext cx="1247400" cy="12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51760" y="776520"/>
              <a:ext cx="961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68360" y="1773360"/>
            <a:ext cx="1239480" cy="1387080"/>
            <a:chOff x="468360" y="1773360"/>
            <a:chExt cx="1239480" cy="138708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468360" y="1773360"/>
              <a:ext cx="1239480" cy="13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07040" y="2018160"/>
              <a:ext cx="95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00000" y="3068640"/>
            <a:ext cx="1349280" cy="1224000"/>
            <a:chOff x="900000" y="3068640"/>
            <a:chExt cx="1349280" cy="122400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900000" y="306864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159920" y="328464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692360" y="1125360"/>
            <a:ext cx="1209240" cy="1214640"/>
            <a:chOff x="1692360" y="1125360"/>
            <a:chExt cx="1209240" cy="1214640"/>
          </a:xfrm>
        </p:grpSpPr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1692360" y="1125360"/>
              <a:ext cx="1209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925280" y="133956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19280" y="2205000"/>
            <a:ext cx="1348920" cy="1224000"/>
            <a:chOff x="1619280" y="2205000"/>
            <a:chExt cx="1348920" cy="1224000"/>
          </a:xfrm>
        </p:grpSpPr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1619280" y="220500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79200" y="2421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76360" y="0"/>
            <a:ext cx="1425240" cy="1224000"/>
            <a:chOff x="1476360" y="0"/>
            <a:chExt cx="1425240" cy="1224000"/>
          </a:xfrm>
        </p:grpSpPr>
        <p:pic>
          <p:nvPicPr>
            <p:cNvPr id="76" name="" descr=""/>
            <p:cNvPicPr/>
            <p:nvPr/>
          </p:nvPicPr>
          <p:blipFill>
            <a:blip r:embed="rId10"/>
            <a:stretch/>
          </p:blipFill>
          <p:spPr>
            <a:xfrm>
              <a:off x="1476360" y="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751040" y="21600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059280" y="0"/>
            <a:ext cx="1591560" cy="1224000"/>
            <a:chOff x="3059280" y="0"/>
            <a:chExt cx="1591560" cy="1224000"/>
          </a:xfrm>
        </p:grpSpPr>
        <p:pic>
          <p:nvPicPr>
            <p:cNvPr id="79" name="" descr=""/>
            <p:cNvPicPr/>
            <p:nvPr/>
          </p:nvPicPr>
          <p:blipFill>
            <a:blip r:embed="rId11"/>
            <a:stretch/>
          </p:blipFill>
          <p:spPr>
            <a:xfrm>
              <a:off x="3059280" y="0"/>
              <a:ext cx="1591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66000" y="216000"/>
              <a:ext cx="122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771640" y="907920"/>
            <a:ext cx="1355400" cy="1431720"/>
            <a:chOff x="2771640" y="907920"/>
            <a:chExt cx="1355400" cy="1431720"/>
          </a:xfrm>
        </p:grpSpPr>
        <p:pic>
          <p:nvPicPr>
            <p:cNvPr id="82" name="" descr=""/>
            <p:cNvPicPr/>
            <p:nvPr/>
          </p:nvPicPr>
          <p:blipFill>
            <a:blip r:embed="rId12"/>
            <a:stretch/>
          </p:blipFill>
          <p:spPr>
            <a:xfrm>
              <a:off x="2771640" y="907920"/>
              <a:ext cx="13554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032640" y="1160280"/>
              <a:ext cx="10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z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132000" y="2205000"/>
            <a:ext cx="1139760" cy="1358640"/>
            <a:chOff x="3132000" y="2205000"/>
            <a:chExt cx="1139760" cy="1358640"/>
          </a:xfrm>
        </p:grpSpPr>
        <p:pic>
          <p:nvPicPr>
            <p:cNvPr id="85" name="" descr=""/>
            <p:cNvPicPr/>
            <p:nvPr/>
          </p:nvPicPr>
          <p:blipFill>
            <a:blip r:embed="rId13"/>
            <a:stretch/>
          </p:blipFill>
          <p:spPr>
            <a:xfrm>
              <a:off x="3132000" y="2205000"/>
              <a:ext cx="11397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51600" y="2444760"/>
              <a:ext cx="87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43280" y="260280"/>
            <a:ext cx="1465200" cy="1224000"/>
            <a:chOff x="4643280" y="260280"/>
            <a:chExt cx="1465200" cy="1224000"/>
          </a:xfrm>
        </p:grpSpPr>
        <p:pic>
          <p:nvPicPr>
            <p:cNvPr id="88" name="" descr=""/>
            <p:cNvPicPr/>
            <p:nvPr/>
          </p:nvPicPr>
          <p:blipFill>
            <a:blip r:embed="rId14"/>
            <a:stretch/>
          </p:blipFill>
          <p:spPr>
            <a:xfrm>
              <a:off x="4643280" y="260280"/>
              <a:ext cx="1465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925520" y="476280"/>
              <a:ext cx="112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11640" y="1125360"/>
            <a:ext cx="1152000" cy="1224000"/>
            <a:chOff x="4211640" y="1125360"/>
            <a:chExt cx="1152000" cy="1224000"/>
          </a:xfrm>
        </p:grpSpPr>
        <p:pic>
          <p:nvPicPr>
            <p:cNvPr id="91" name="" descr=""/>
            <p:cNvPicPr/>
            <p:nvPr/>
          </p:nvPicPr>
          <p:blipFill>
            <a:blip r:embed="rId15"/>
            <a:stretch/>
          </p:blipFill>
          <p:spPr>
            <a:xfrm>
              <a:off x="4211640" y="1125360"/>
              <a:ext cx="1152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211640" y="1269720"/>
              <a:ext cx="110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56000" y="2421000"/>
            <a:ext cx="1349280" cy="1224000"/>
            <a:chOff x="4356000" y="2421000"/>
            <a:chExt cx="1349280" cy="1224000"/>
          </a:xfrm>
        </p:grpSpPr>
        <p:pic>
          <p:nvPicPr>
            <p:cNvPr id="94" name="" descr=""/>
            <p:cNvPicPr/>
            <p:nvPr/>
          </p:nvPicPr>
          <p:blipFill>
            <a:blip r:embed="rId16"/>
            <a:stretch/>
          </p:blipFill>
          <p:spPr>
            <a:xfrm>
              <a:off x="4356000" y="242100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15920" y="2637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84720" y="115920"/>
            <a:ext cx="1447560" cy="1224000"/>
            <a:chOff x="6084720" y="115920"/>
            <a:chExt cx="1447560" cy="1224000"/>
          </a:xfrm>
        </p:grpSpPr>
        <p:pic>
          <p:nvPicPr>
            <p:cNvPr id="97" name="" descr=""/>
            <p:cNvPicPr/>
            <p:nvPr/>
          </p:nvPicPr>
          <p:blipFill>
            <a:blip r:embed="rId17"/>
            <a:stretch/>
          </p:blipFill>
          <p:spPr>
            <a:xfrm>
              <a:off x="6084720" y="11592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363720" y="331920"/>
              <a:ext cx="111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292720" y="1341360"/>
            <a:ext cx="1402920" cy="1177920"/>
            <a:chOff x="5292720" y="1341360"/>
            <a:chExt cx="1402920" cy="1177920"/>
          </a:xfrm>
        </p:grpSpPr>
        <p:pic>
          <p:nvPicPr>
            <p:cNvPr id="100" name="" descr=""/>
            <p:cNvPicPr/>
            <p:nvPr/>
          </p:nvPicPr>
          <p:blipFill>
            <a:blip r:embed="rId18"/>
            <a:stretch/>
          </p:blipFill>
          <p:spPr>
            <a:xfrm>
              <a:off x="5292720" y="1341360"/>
              <a:ext cx="14029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63080" y="1549080"/>
              <a:ext cx="10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08720" y="2924280"/>
            <a:ext cx="1348920" cy="1224000"/>
            <a:chOff x="5508720" y="2924280"/>
            <a:chExt cx="1348920" cy="1224000"/>
          </a:xfrm>
        </p:grpSpPr>
        <p:pic>
          <p:nvPicPr>
            <p:cNvPr id="103" name="" descr=""/>
            <p:cNvPicPr/>
            <p:nvPr/>
          </p:nvPicPr>
          <p:blipFill>
            <a:blip r:embed="rId19"/>
            <a:stretch/>
          </p:blipFill>
          <p:spPr>
            <a:xfrm>
              <a:off x="5508720" y="2924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68640" y="314028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300720" y="2060640"/>
            <a:ext cx="1439640" cy="1224000"/>
            <a:chOff x="6300720" y="2060640"/>
            <a:chExt cx="1439640" cy="1224000"/>
          </a:xfrm>
        </p:grpSpPr>
        <p:pic>
          <p:nvPicPr>
            <p:cNvPr id="106" name="" descr=""/>
            <p:cNvPicPr/>
            <p:nvPr/>
          </p:nvPicPr>
          <p:blipFill>
            <a:blip r:embed="rId20"/>
            <a:stretch/>
          </p:blipFill>
          <p:spPr>
            <a:xfrm>
              <a:off x="6300720" y="206064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77920" y="2276640"/>
              <a:ext cx="110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48360" y="2997360"/>
            <a:ext cx="1349280" cy="1223640"/>
            <a:chOff x="6948360" y="2997360"/>
            <a:chExt cx="1349280" cy="1223640"/>
          </a:xfrm>
        </p:grpSpPr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>
              <a:off x="6948360" y="2997360"/>
              <a:ext cx="134928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208280" y="3213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32720" y="1052640"/>
            <a:ext cx="1447200" cy="1224000"/>
            <a:chOff x="6732720" y="1052640"/>
            <a:chExt cx="1447200" cy="1224000"/>
          </a:xfrm>
        </p:grpSpPr>
        <p:pic>
          <p:nvPicPr>
            <p:cNvPr id="112" name="" descr=""/>
            <p:cNvPicPr/>
            <p:nvPr/>
          </p:nvPicPr>
          <p:blipFill>
            <a:blip r:embed="rId22"/>
            <a:stretch/>
          </p:blipFill>
          <p:spPr>
            <a:xfrm>
              <a:off x="6732720" y="105264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11360" y="1268640"/>
              <a:ext cx="111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236000" y="260280"/>
            <a:ext cx="1348920" cy="1224000"/>
            <a:chOff x="7236000" y="260280"/>
            <a:chExt cx="1348920" cy="1224000"/>
          </a:xfrm>
        </p:grpSpPr>
        <p:pic>
          <p:nvPicPr>
            <p:cNvPr id="115" name="" descr=""/>
            <p:cNvPicPr/>
            <p:nvPr/>
          </p:nvPicPr>
          <p:blipFill>
            <a:blip r:embed="rId23"/>
            <a:stretch/>
          </p:blipFill>
          <p:spPr>
            <a:xfrm>
              <a:off x="7236000" y="260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495920" y="47628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96360" y="1916280"/>
            <a:ext cx="1348920" cy="1223640"/>
            <a:chOff x="7596360" y="1916280"/>
            <a:chExt cx="1348920" cy="1223640"/>
          </a:xfrm>
        </p:grpSpPr>
        <p:pic>
          <p:nvPicPr>
            <p:cNvPr id="118" name="" descr=""/>
            <p:cNvPicPr/>
            <p:nvPr/>
          </p:nvPicPr>
          <p:blipFill>
            <a:blip r:embed="rId24"/>
            <a:stretch/>
          </p:blipFill>
          <p:spPr>
            <a:xfrm>
              <a:off x="7596360" y="1916280"/>
              <a:ext cx="1348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856280" y="213192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C 0.0184 0.03171 -0.00069 0.06736 0.02153 0.09792 C 0.05886 0.14815 0.16632 0.18403 0.23264 0.21343 C 0.24028 0.3169 0.2007 0.3757 0.29688 0.43958 C 0.31372 0.47338 0.36406 0.48889 0.39931 0.5125 C 0.41441 0.52269 0.4283 0.5375 0.4382 0.55093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C 0.00087 0.01991 -0.00156 0.03496 0.0125 0.04445 C 0.01823 0.04838 0.02361 0.05255 0.02917 0.05741 C 0.03195 0.05996 0.0375 0.06482 0.0375 0.06482 C 0.04184 0.08241 0.03733 0.0625 0.04028 0.10556 C 0.0408 0.11273 0.04827 0.12292 0.05 0.12593 C 0.05434 0.1338 0.05799 0.14074 0.0625 0.14815 C 0.06545 0.15301 0.07084 0.16297 0.07084 0.16297 C 0.0717 0.16783 0.07275 0.17292 0.07361 0.17778 C 0.07413 0.18033 0.075 0.18519 0.075 0.18519 C 0.07552 0.19375 0.07535 0.20255 0.07639 0.21111 C 0.07743 0.21991 0.08056 0.23009 0.08195 0.23889 C 0.08351 0.32616 0.07691 0.29468 0.0875 0.33704 C 0.08872 0.3419 0.09306 0.34445 0.09584 0.34815 C 0.10261 0.35718 0.10851 0.36343 0.11667 0.37037 C 0.12049 0.37361 0.12917 0.37778 0.12917 0.37778 C 0.13368 0.3838 0.13698 0.39097 0.14167 0.3963 C 0.1507 0.40672 0.16337 0.41829 0.175 0.42222 C 0.18264 0.42107 0.18959 0.41852 0.19722 0.42222 C 0.20087 0.42384 0.20174 0.43009 0.20417 0.43334 C 0.21059 0.4419 0.21893 0.4507 0.22639 0.45741 C 0.22726 0.45926 0.22795 0.46134 0.22917 0.46297 C 0.23038 0.46459 0.23229 0.46505 0.23334 0.46667 C 0.2382 0.47408 0.23854 0.48172 0.24306 0.48889 C 0.25209 0.50324 0.2632 0.51736 0.275 0.52778 C 0.27986 0.54699 0.27344 0.51968 0.27778 0.57037 C 0.27882 0.58287 0.28021 0.57871 0.28334 0.58704 C 0.28959 0.60394 0.29792 0.61713 0.30972 0.62778 C 0.31285 0.63426 0.31597 0.63843 0.32084 0.64259 C 0.32379 0.65463 0.32222 0.65764 0.32639 0.64815 C 0.32691 0.64699 0.32726 0.6456 0.32778 0.64445 E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434 0.0088 0.00226 0.00347 0.00556 0.01667 C 0.00782 0.02546 0.01893 0.02986 0.025 0.03148 C 0.03837 0.04213 0.05139 0.0537 0.06528 0.06296 C 0.07049 0.07245 0.07605 0.0787 0.08334 0.08518 C 0.0875 0.09375 0.09862 0.11042 0.10556 0.11667 C 0.11112 0.12755 0.10504 0.1169 0.11389 0.12778 C 0.11771 0.13241 0.11997 0.14028 0.125 0.14259 C 0.14028 0.1493 0.15573 0.16088 0.16945 0.17222 C 0.18056 0.18148 0.1915 0.19768 0.20417 0.20185 C 0.21268 0.21042 0.22032 0.225 0.23056 0.22963 C 0.23247 0.2375 0.23577 0.23935 0.24028 0.24444 C 0.24184 0.24606 0.24254 0.24907 0.24445 0.25 C 0.24879 0.25231 0.25834 0.2537 0.25834 0.2537 C 0.26841 0.26273 0.28021 0.26875 0.29028 0.27778 C 0.29306 0.28889 0.30139 0.29653 0.30417 0.30741 C 0.30469 0.30926 0.30469 0.31134 0.30556 0.31296 C 0.31164 0.32523 0.30799 0.31204 0.3125 0.32407 C 0.31754 0.3375 0.31928 0.35509 0.325 0.36667 C 0.32553 0.38032 0.32518 0.39398 0.32639 0.40741 C 0.32657 0.41018 0.32848 0.41227 0.32917 0.41481 C 0.32934 0.41551 0.33073 0.42755 0.33195 0.42963 C 0.33334 0.43194 0.33594 0.4331 0.3375 0.43518 E"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4.07407E-006 C 0.01389 0.01783 -0.00069 0.03797 0.01632 0.0551 C 0.04497 0.08334 0.12726 0.10348 0.17813 0.11991 C 0.18386 0.17824 0.15347 0.21112 0.22726 0.24723 C 0.24028 0.26621 0.27882 0.275 0.30573 0.2882 C 0.31736 0.29399 0.32795 0.30232 0.33559 0.30996 E">
                                      <p:cBhvr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C 0.00052 0.01111 -0.00035 0.02245 0.00139 0.03333 C 0.00382 0.0493 0.02413 0.05208 0.03056 0.06481 C 0.0349 0.07338 0.03594 0.0824 0.0375 0.09259 C 0.03924 0.12222 0.03837 0.13819 0.05417 0.15926 C 0.0632 0.17129 0.05295 0.16319 0.06389 0.17037 C 0.0691 0.18102 0.07795 0.18727 0.08472 0.19629 C 0.09045 0.21921 0.08004 0.24768 0.08889 0.26852 C 0.09583 0.28472 0.11754 0.28865 0.12917 0.29259 C 0.13125 0.29328 0.13281 0.29537 0.13472 0.29629 C 0.1375 0.29768 0.14306 0.3 0.14306 0.3 C 0.14931 0.30625 0.15868 0.31342 0.16389 0.32222 C 0.17257 0.33727 0.16563 0.32986 0.17361 0.33703 C 0.17552 0.34352 0.17604 0.34676 0.17917 0.35185 C 0.18281 0.35787 0.18837 0.36041 0.19167 0.36666 C 0.19913 0.38078 0.20695 0.3956 0.21806 0.40555 C 0.21927 0.40671 0.22101 0.40648 0.22222 0.4074 C 0.2316 0.41435 0.23976 0.42338 0.24722 0.43333 C 0.25104 0.44838 0.24948 0.46481 0.24583 0.47963 C 0.24636 0.48634 0.24636 0.49328 0.24722 0.5 C 0.24774 0.50393 0.25 0.51111 0.25 0.51111 C 0.24879 0.52615 0.25035 0.53194 0.24167 0.54074 C 0.23958 0.54884 0.23542 0.55486 0.23333 0.56296 C 0.23715 0.5706 0.2382 0.5743 0.24306 0.57963 C 0.24427 0.58102 0.24636 0.58148 0.24722 0.58333 C 0.24757 0.58402 0.24636 0.58449 0.24583 0.58518 E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5185E-006 C 0.00677 0.02338 -0.000699999999999999 0.04954 0.00798 0.07199 C 0.02257 0.10879 0.06441 0.13518 0.09028 0.15671 C 0.09323 0.23264 0.07778 0.27569 0.11528 0.32268 C 0.12187 0.34745 0.14149 0.35879 0.15521 0.37616 C 0.16111 0.38356 0.16649 0.39444 0.17031 0.4044 E"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0.00052 0.00255 0.00069 0.0051 0.00139 0.00741 C 0.00208 0.00949 0.00364 0.01088 0.00416 0.01297 C 0.00729 0.02547 0.00468 0.0294 0.01111 0.04074 C 0.01701 0.06436 0.02691 0.08658 0.03472 0.10926 C 0.04027 0.12523 0.04409 0.1426 0.05139 0.15741 C 0.05503 0.16459 0.06302 0.17848 0.06805 0.18334 C 0.06979 0.18496 0.07187 0.18542 0.07361 0.18704 C 0.07795 0.19121 0.08333 0.20371 0.08333 0.20371 C 0.0842 0.24699 0.07882 0.26968 0.09583 0.29977 C 0.09948 0.31412 0.10729 0.32477 0.11666 0.33311 C 0.12066 0.34375 0.12396 0.35556 0.12916 0.36482 C 0.13021 0.37963 0.13246 0.40371 0.13889 0.41667 C 0.14201 0.44514 0.13472 0.47755 0.15694 0.49236 C 0.16406 0.51158 0.15521 0.49213 0.16389 0.50162 C 0.16562 0.50371 0.16632 0.50695 0.16805 0.50903 C 0.17014 0.51158 0.17291 0.51227 0.175 0.51482 C 0.18194 0.52199 0.18715 0.53102 0.19583 0.53496 C 0.20243 0.54375 0.2085 0.55139 0.21389 0.56088 C 0.21701 0.57361 0.21267 0.55834 0.21944 0.57408 C 0.22413 0.58473 0.22361 0.5963 0.22916 0.60741 C 0.23732 0.62361 0.23264 0.61505 0.24305 0.63311 C 0.24427 0.63565 0.24687 0.63542 0.24861 0.63704 C 0.25017 0.63843 0.25156 0.64028 0.25277 0.64236 C 0.26076 0.6551 0.27066 0.66574 0.28055 0.6757 C 0.28489 0.69306 0.28663 0.69561 0.28194 0.72037 C 0.28194 0.72037 0.275 0.725 0.27361 0.7257 E">
                                      <p:cBhvr>
                                        <p:cTn id="3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0.00555 0.00509 0.01007 0.01296 0.01389 0.02037 C 0.01302 0.0449 0.01267 0.0574 0.00833 0.07777 C 0.00746 0.08217 0.00659 0.08634 0.00555 0.09074 C 0.00468 0.09444 0.00277 0.10185 0.00277 0.10185 C 0.0033 0.11551 0.0033 0.1287 0.00416 0.14259 C 0.00503 0.15833 0.01423 0.17152 0.02083 0.18333 C 0.02465 0.19838 0.02482 0.19166 0.02639 0.21296 C 0.02517 0.23333 0.02187 0.25046 0.01944 0.27037 C 0.01909 0.27291 0.01545 0.28472 0.01527 0.28518 C 0.01076 0.30115 0.00677 0.31828 0.00416 0.33518 C 0.0033 0.35601 0.00069 0.37685 0.00139 0.39814 C 0.00156 0.40439 0.00295 0.41064 0.00416 0.41666 C 0.00521 0.42222 0.00833 0.43333 0.00833 0.43333 C 0.00781 0.44514 0.00868 0.45694 0.00694 0.46851 C 0.00625 0.47291 0.00382 0.47639 0.00139 0.47939 C -0.00729 0.4912 -0.01632 0.50115 -0.025 0.51296 C -0.0316 0.52176 -0.03264 0.5331 -0.03473 0.54421 C -0.03594 0.55046 -0.04167 0.56088 -0.04167 0.56088 C -0.04323 0.57106 -0.04514 0.57963 -0.04861 0.58889 C -0.04931 0.59097 -0.0507 0.59236 -0.05139 0.59444 C -0.05261 0.59791 -0.05417 0.60555 -0.05417 0.60555 C -0.05226 0.62106 -0.05365 0.63703 -0.05 0.65185 C -0.04896 0.675 -0.05 0.69676 -0.05 0.72014 E">
                                      <p:cBhvr>
                                        <p:cTn id="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0642 0.00278 0.01302 0.00463 0.01944 0.0074 C 0.02083 0.0081 0.02361 0.00926 0.02361 0.00926 C 0.02691 0.01597 0.02986 0.01597 0.03472 0.02037 C 0.04844 0.04791 0.07969 0.04166 0.1 0.04259 C 0.10694 0.0456 0.11059 0.05393 0.11667 0.05926 C 0.12222 0.07037 0.12743 0.08055 0.13194 0.09259 C 0.13368 0.09722 0.1375 0.09884 0.14028 0.10185 C 0.14288 0.10463 0.14514 0.10949 0.14861 0.11111 C 0.15312 0.11319 0.15799 0.11319 0.1625 0.11481 C 0.1651 0.11828 0.16667 0.12291 0.16944 0.12592 C 0.18021 0.13773 0.17031 0.12106 0.17917 0.13518 C 0.18646 0.14699 0.19462 0.15949 0.20278 0.17037 C 0.20781 0.19074 0.21962 0.20208 0.23055 0.21666 C 0.23212 0.21875 0.23299 0.22199 0.23472 0.22407 C 0.24809 0.23981 0.26441 0.25162 0.27917 0.26481 C 0.28333 0.27338 0.29028 0.2787 0.29444 0.28703 C 0.30295 0.30416 0.31285 0.31528 0.32361 0.32963 C 0.32795 0.33541 0.3316 0.34259 0.33611 0.34815 C 0.34253 0.35602 0.35226 0.36574 0.35972 0.37222 C 0.36719 0.38703 0.35746 0.36921 0.36667 0.38148 C 0.36996 0.38588 0.37083 0.39259 0.37222 0.39815 C 0.37309 0.40185 0.375 0.40926 0.375 0.40926 C 0.37552 0.42477 0.37569 0.44004 0.37639 0.45555 C 0.37674 0.4625 0.37656 0.47407 0.38333 0.47407 E">
                                      <p:cBhvr>
                                        <p:cTn id="4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6 C 0.0132 0.02338 0.0283 0.01366 0.05625 0.01505 C 0.06372 0.02848 0.05886 0.04468 0.06493 0.0588 C 0.07361 0.07917 0.08681 0.09514 0.09948 0.1125 C 0.10764 0.12385 0.11563 0.13774 0.12691 0.14445 C 0.1316 0.15278 0.13924 0.15811 0.14566 0.16459 C 0.15295 0.17176 0.15834 0.17894 0.16736 0.18311 C 0.17969 0.19769 0.19896 0.20255 0.21354 0.21343 C 0.2191 0.21736 0.22396 0.22292 0.22934 0.22686 C 0.23542 0.23102 0.24219 0.23403 0.24809 0.23866 C 0.2599 0.24769 0.25087 0.24352 0.25973 0.24699 C 0.26268 0.25232 0.26771 0.25463 0.26979 0.26042 C 0.27483 0.27361 0.26927 0.26783 0.27709 0.27385 C 0.28473 0.28727 0.27466 0.27107 0.2842 0.28218 C 0.29636 0.2963 0.27917 0.27871 0.28854 0.29236 C 0.29375 0.3 0.30695 0.30186 0.31459 0.30417 C 0.32188 0.30996 0.31771 0.31135 0.32327 0.3176 C 0.32448 0.31899 0.32761 0.32107 0.32761 0.32107 E">
                                      <p:cBhvr>
                                        <p:cTn id="5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6 C 0.00573 0.00255 0.01163 0.00672 0.01667 0.01112 C 0.02031 0.02547 0.02205 0.0338 0.03194 0.0426 C 0.03611 0.05116 0.04722 0.06783 0.05417 0.07408 C 0.0566 0.08033 0.05938 0.08589 0.06111 0.0926 C 0.06319 0.11158 0.06458 0.12501 0.075 0.13889 C 0.07917 0.15579 0.08507 0.1713 0.09167 0.18704 C 0.09358 0.19167 0.09392 0.19723 0.09583 0.20186 C 0.09688 0.20417 0.09896 0.20533 0.1 0.20741 C 0.10174 0.21089 0.10226 0.21528 0.10417 0.21852 C 0.10521 0.22038 0.10712 0.22061 0.10833 0.22223 C 0.11528 0.23149 0.12222 0.24075 0.12778 0.25186 C 0.1283 0.26922 0.1283 0.28635 0.12917 0.30371 C 0.12951 0.31227 0.13611 0.322 0.13889 0.32964 C 0.14444 0.34445 0.14271 0.35139 0.15278 0.36482 C 0.15365 0.36783 0.15434 0.37107 0.15556 0.37408 C 0.1566 0.37686 0.15938 0.37848 0.15972 0.38149 C 0.16163 0.39746 0.16059 0.41366 0.1625 0.42964 C 0.16302 0.43311 0.16927 0.43982 0.17083 0.4426 C 0.18194 0.46065 0.1934 0.47639 0.20556 0.4926 C 0.20799 0.50232 0.21007 0.51251 0.2125 0.52223 C 0.21476 0.53149 0.21215 0.53334 0.21667 0.54075 C 0.2191 0.54491 0.2217 0.54885 0.225 0.55186 C 0.22639 0.55302 0.22795 0.55394 0.22917 0.55556 C 0.23472 0.56297 0.23802 0.57431 0.24583 0.57778 C 0.2467 0.57964 0.24722 0.58218 0.24861 0.58334 C 0.26302 0.59538 0.25694 0.57061 0.25694 0.61297 E">
                                      <p:cBhvr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22222E-006 C 0.00938 0.03773 0.00052 0.08056 0.00417 0.12037 C 0.00538 0.13357 0.01424 0.14329 0.01944 0.15371 C 0.0217 0.16528 0.02726 0.17408 0.03056 0.18519 C 0.03212 0.19051 0.03333 0.1963 0.03472 0.20185 C 0.03646 0.20857 0.03958 0.21412 0.04167 0.22037 C 0.04358 0.22616 0.04462 0.23264 0.04583 0.23889 C 0.04531 0.25486 0.04549 0.27107 0.04444 0.28704 C 0.0434 0.30209 0.03542 0.31736 0.03194 0.33148 C 0.03125 0.3426 0.02951 0.35371 0.02917 0.36482 C 0.02778 0.4132 0.03021 0.45116 0.01944 0.49445 C 0.01806 0.50695 0.01858 0.51019 0.01111 0.51667 C 0.01024 0.51852 0.00903 0.52014 0.00833 0.52223 C 0.00764 0.52408 0.00764 0.52616 0.00694 0.52778 C 0.00538 0.53172 0.00139 0.53889 0.00139 0.53889 C 0.00434 0.5507 0.00417 0.54607 0.00417 0.55185 E">
                                      <p:cBhvr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3.7037E-007 C 0.00799 0.01852 -0.00069 0.03912 0.00955 0.05694 C 0.02674 0.08611 0.07639 0.10694 0.10695 0.12407 C 0.11042 0.18426 0.09219 0.21829 0.13664 0.25556 C 0.14445 0.27523 0.16771 0.28403 0.18386 0.29792 C 0.19098 0.3037 0.19723 0.31227 0.20191 0.32037 E">
                                      <p:cBhvr>
                                        <p:cTn id="6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2.96296E-006 C 0.00138 0.00185 0.0026 0.00393 0.00416 0.00555 C 0.0059 0.00717 0.00815 0.0074 0.00972 0.00925 C 0.01145 0.01134 0.01215 0.01458 0.01388 0.01666 C 0.01614 0.01921 0.02083 0.02106 0.02361 0.02222 C 0.03194 0.03888 0.01892 0.07314 0.01527 0.09259 C 0.01649 0.11527 0.01649 0.16111 0.03333 0.17592 C 0.03593 0.18657 0.03263 0.17685 0.04027 0.18703 C 0.046 0.19467 0.05121 0.20347 0.05694 0.21111 C 0.0585 0.21319 0.06093 0.21435 0.06249 0.21666 C 0.06562 0.22129 0.07083 0.23148 0.07083 0.23148 C 0.07465 0.25185 0.07361 0.26527 0.07499 0.28888 C 0.07534 0.29583 0.07864 0.303 0.08055 0.30925 C 0.08368 0.3199 0.08576 0.33148 0.08749 0.34259 C 0.08871 0.37939 0.08923 0.38958 0.09583 0.42037 C 0.09704 0.4375 0.09722 0.45949 0.10138 0.47592 C 0.10937 0.5081 0.1052 0.48287 0.10833 0.5037 C 0.10885 0.51041 0.10972 0.51736 0.10972 0.52407 C 0.10972 0.52592 0.10833 0.52777 0.10833 0.52963 C 0.10833 0.54953 0.12135 0.57453 0.13333 0.58518 C 0.13385 0.5993 0.13472 0.62777 0.13472 0.62777 E">
                                      <p:cBhvr>
                                        <p:cTn id="7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66667E-006 C 0.00139 0.00116 0.00296 0.00209 0.00417 0.00371 C 0.00539 0.00533 0.00573 0.00788 0.00695 0.00927 C 0.01285 0.01621 0.01372 0.01598 0.01945 0.01853 C 0.02501 0.02408 0.02813 0.02732 0.03473 0.02964 C 0.03733 0.03195 0.0415 0.03519 0.04306 0.0389 C 0.04636 0.04677 0.04532 0.05603 0.05001 0.06297 C 0.05869 0.0757 0.06598 0.08033 0.07639 0.09075 C 0.08299 0.09723 0.09358 0.09862 0.10139 0.10186 C 0.10417 0.10302 0.10973 0.10556 0.10973 0.10556 C 0.11494 0.11598 0.11407 0.1264 0.11528 0.1389 C 0.11702 0.15579 0.12014 0.17223 0.12223 0.1889 C 0.12553 0.21482 0.12014 0.20255 0.12639 0.21482 C 0.12952 0.23612 0.13751 0.25325 0.14723 0.27038 C 0.14862 0.28218 0.14948 0.2845 0.15556 0.2926 C 0.1573 0.29978 0.16146 0.30255 0.16389 0.30927 C 0.16841 0.32153 0.16945 0.33704 0.17362 0.35001 C 0.17518 0.36042 0.17709 0.37015 0.18056 0.37964 C 0.1823 0.41019 0.17848 0.43056 0.19306 0.45186 C 0.19966 0.46135 0.20452 0.46922 0.21389 0.47223 C 0.21876 0.47663 0.21633 0.47593 0.22084 0.47593 E">
                                      <p:cBhvr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7.40741E-007 C 0.00572 0.01528 -0.0007 0.03264 0.00677 0.04768 C 0.01927 0.07199 0.05538 0.08958 0.0776 0.1037 C 0.0802 0.15417 0.06684 0.18264 0.09913 0.21389 C 0.10486 0.23009 0.1217 0.23773 0.13368 0.2493 C 0.13871 0.25417 0.1434 0.26134 0.1467 0.26805 E">
                                      <p:cBhvr>
                                        <p:cTn id="8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C 0.00295 0.0081 0.00816 0.01528 0.01389 0.02037 C 0.01441 0.03588 0.01337 0.05139 0.01528 0.06667 C 0.0158 0.07106 0.01979 0.07361 0.02083 0.07778 C 0.02222 0.0831 0.02187 0.08935 0.02361 0.09444 C 0.02448 0.09676 0.02639 0.09815 0.02778 0.1 C 0.02934 0.10602 0.03177 0.11065 0.03333 0.11667 C 0.03385 0.12708 0.03316 0.13773 0.03472 0.14815 C 0.03507 0.15069 0.03767 0.15162 0.03889 0.1537 C 0.04375 0.16204 0.05017 0.1713 0.05278 0.18148 C 0.05364 0.19444 0.05399 0.20324 0.05694 0.21481 C 0.05833 0.2706 0.05035 0.26157 0.06805 0.28518 C 0.07153 0.29907 0.06649 0.28241 0.07361 0.29444 C 0.07465 0.29606 0.07847 0.30856 0.07917 0.31111 C 0.07743 0.33403 0.07778 0.32338 0.07778 0.34259 E">
                                      <p:cBhvr>
                                        <p:cTn id="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59259E-006 C -0.00121 0.01412 -0.00069 0.03009 -0.00121 0.04375 C -0.00208 0.0662 -0.00469 0.0824 -0.00608 0.0956 C -0.00625 0.1419 -0.00538 0.16805 -0.00764 0.19676 C -0.00799 0.2118 -0.0092 0.21875 -0.0099 0.2294 C -0.01024 0.23403 -0.01059 0.24051 -0.01076 0.24676 E">
                                      <p:cBhvr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2963E-006 C 0.00833 0.01666 0.00347 0.03726 1.11111E-006 0.05555 C 0.00052 0.06596 0.00052 0.07661 0.00139 0.08703 C 0.00191 0.09397 0.00555 0.1074 0.00555 0.1074 C 0.00434 0.12592 0.00503 0.13194 -0.00139 0.14629 C -0.00261 0.15856 -0.00434 0.16921 -0.00556 0.18147 C -0.00469 0.20439 -0.00868 0.21434 0.00139 0.22777 C 0.00347 0.23633 0.00469 0.24282 0.00833 0.24999 C 0.00885 0.26365 0.00903 0.27708 0.00972 0.29073 C 0.00989 0.29397 0.01094 0.29675 0.01111 0.29999 C 0.01215 0.32777 0.00364 0.36296 0.02222 0.38147 C 0.0243 0.39004 0.0342 0.39513 0.03472 0.4037 C 0.03559 0.41897 0.03472 0.43448 0.03472 0.44999 E">
                                      <p:cBhvr>
                                        <p:cTn id="9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3.33333E-006 C -0.00399 0.03611 -0.00069 0.07639 -0.00451 0.11111 C -0.01076 0.16806 -0.02864 0.2088 -0.03958 0.24213 C -0.04097 0.35949 -0.03437 0.42593 -0.05034 0.49861 C -0.05312 0.53681 -0.06163 0.5544 -0.06736 0.58125 C -0.06996 0.5926 -0.07222 0.60949 -0.07378 0.62477 E">
                                      <p:cBhvr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48148E-006 C -0.00329 0.02268 -0.00069 0.04815 -0.00364 0.06991 C -0.0085 0.10579 -0.02257 0.13148 -0.03125 0.15254 C -0.03229 0.22662 -0.02708 0.26852 -0.03958 0.31435 C -0.04184 0.33842 -0.04843 0.34954 -0.05295 0.36643 C -0.05503 0.37361 -0.05677 0.38426 -0.05798 0.39398 E">
                                      <p:cBhvr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43280" y="242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数学   语文   数学   语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8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语文   数学   语文   数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28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音乐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音乐   体育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3716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4221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育   生命   写字   队活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阅读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心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581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语文   体育   社团   体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124000" y="1628640"/>
            <a:ext cx="7236000" cy="4733640"/>
            <a:chOff x="2124000" y="1628640"/>
            <a:chExt cx="7236000" cy="47336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rcRect l="20870" t="26028" r="16928" b="18454"/>
            <a:stretch/>
          </p:blipFill>
          <p:spPr>
            <a:xfrm>
              <a:off x="2124000" y="1628640"/>
              <a:ext cx="7056720" cy="47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348000" y="2420640"/>
              <a:ext cx="601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数学  语文  数学  语文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5280" y="299700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 语文  数学  语文  数学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3640" y="3500280"/>
              <a:ext cx="56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3280" y="4005000"/>
              <a:ext cx="561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465264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   生命  写字  队活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阅读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心理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5280" y="5155920"/>
              <a:ext cx="60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语文  体育 社团   体活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24000" y="260280"/>
            <a:ext cx="7418520" cy="1081080"/>
            <a:chOff x="2124000" y="260280"/>
            <a:chExt cx="7418520" cy="1081080"/>
          </a:xfrm>
        </p:grpSpPr>
        <p:sp>
          <p:nvSpPr>
            <p:cNvPr id="139" name="云形标注 1"/>
            <p:cNvSpPr/>
            <p:nvPr/>
          </p:nvSpPr>
          <p:spPr>
            <a:xfrm>
              <a:off x="2124000" y="260280"/>
              <a:ext cx="7418520" cy="1081080"/>
            </a:xfrm>
            <a:prstGeom prst="cloudCallout">
              <a:avLst>
                <a:gd name="adj1" fmla="val -26310"/>
                <a:gd name="adj2" fmla="val 6747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2"/>
            <p:cNvSpPr/>
            <p:nvPr/>
          </p:nvSpPr>
          <p:spPr>
            <a:xfrm>
              <a:off x="2484360" y="476280"/>
              <a:ext cx="69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黑体"/>
                </a:rPr>
                <a:t>看看你的课程表，星期三有什么课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-1044720" y="692280"/>
            <a:ext cx="43214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1405080" y="-603360"/>
            <a:ext cx="5759640" cy="511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27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014560" y="2781360"/>
            <a:ext cx="7128360" cy="1675080"/>
            <a:chOff x="2014560" y="2781360"/>
            <a:chExt cx="7128360" cy="1675080"/>
          </a:xfrm>
        </p:grpSpPr>
        <p:grpSp>
          <p:nvGrpSpPr>
            <p:cNvPr id="146" name="Group 4"/>
            <p:cNvGrpSpPr/>
            <p:nvPr/>
          </p:nvGrpSpPr>
          <p:grpSpPr>
            <a:xfrm>
              <a:off x="3731760" y="2892600"/>
              <a:ext cx="1903320" cy="1563840"/>
              <a:chOff x="3731760" y="2892600"/>
              <a:chExt cx="1903320" cy="156384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731760" y="2892600"/>
                <a:ext cx="1752480" cy="1526760"/>
                <a:chOff x="3731760" y="2892600"/>
                <a:chExt cx="1752480" cy="152676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731760" y="29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7"/>
                <p:cNvSpPr/>
                <p:nvPr/>
              </p:nvSpPr>
              <p:spPr>
                <a:xfrm>
                  <a:off x="4614480" y="28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8"/>
                <p:cNvSpPr/>
                <p:nvPr/>
              </p:nvSpPr>
              <p:spPr>
                <a:xfrm>
                  <a:off x="3745080" y="36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9"/>
              <p:cNvSpPr/>
              <p:nvPr/>
            </p:nvSpPr>
            <p:spPr>
              <a:xfrm>
                <a:off x="3894840" y="28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"/>
            <p:cNvGrpSpPr/>
            <p:nvPr/>
          </p:nvGrpSpPr>
          <p:grpSpPr>
            <a:xfrm>
              <a:off x="2014560" y="2781360"/>
              <a:ext cx="1910520" cy="1621080"/>
              <a:chOff x="2014560" y="2781360"/>
              <a:chExt cx="1910520" cy="1621080"/>
            </a:xfrm>
          </p:grpSpPr>
          <p:grpSp>
            <p:nvGrpSpPr>
              <p:cNvPr id="153" name="Group 11"/>
              <p:cNvGrpSpPr/>
              <p:nvPr/>
            </p:nvGrpSpPr>
            <p:grpSpPr>
              <a:xfrm>
                <a:off x="2014560" y="2878920"/>
                <a:ext cx="1739160" cy="1523520"/>
                <a:chOff x="2014560" y="2878920"/>
                <a:chExt cx="1739160" cy="1523520"/>
              </a:xfrm>
            </p:grpSpPr>
            <p:sp>
              <p:nvSpPr>
                <p:cNvPr id="154" name="Rectangle 12"/>
                <p:cNvSpPr/>
                <p:nvPr/>
              </p:nvSpPr>
              <p:spPr>
                <a:xfrm>
                  <a:off x="2014560" y="29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3"/>
                <p:cNvSpPr/>
                <p:nvPr/>
              </p:nvSpPr>
              <p:spPr>
                <a:xfrm>
                  <a:off x="288396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4"/>
                <p:cNvSpPr/>
                <p:nvPr/>
              </p:nvSpPr>
              <p:spPr>
                <a:xfrm>
                  <a:off x="2014560" y="36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15"/>
              <p:cNvSpPr/>
              <p:nvPr/>
            </p:nvSpPr>
            <p:spPr>
              <a:xfrm>
                <a:off x="2185200" y="27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"/>
            <p:cNvGrpSpPr/>
            <p:nvPr/>
          </p:nvGrpSpPr>
          <p:grpSpPr>
            <a:xfrm>
              <a:off x="5443920" y="2781360"/>
              <a:ext cx="1986840" cy="1621080"/>
              <a:chOff x="5443920" y="2781360"/>
              <a:chExt cx="1986840" cy="1621080"/>
            </a:xfrm>
          </p:grpSpPr>
          <p:grpSp>
            <p:nvGrpSpPr>
              <p:cNvPr id="159" name="Group 17"/>
              <p:cNvGrpSpPr/>
              <p:nvPr/>
            </p:nvGrpSpPr>
            <p:grpSpPr>
              <a:xfrm>
                <a:off x="5443920" y="2878920"/>
                <a:ext cx="1773000" cy="1523520"/>
                <a:chOff x="5443920" y="2878920"/>
                <a:chExt cx="1773000" cy="1523520"/>
              </a:xfrm>
            </p:grpSpPr>
            <p:sp>
              <p:nvSpPr>
                <p:cNvPr id="160" name="Rectangle 18"/>
                <p:cNvSpPr/>
                <p:nvPr/>
              </p:nvSpPr>
              <p:spPr>
                <a:xfrm>
                  <a:off x="5443920" y="29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9"/>
                <p:cNvSpPr/>
                <p:nvPr/>
              </p:nvSpPr>
              <p:spPr>
                <a:xfrm>
                  <a:off x="634644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20"/>
                <p:cNvSpPr/>
                <p:nvPr/>
              </p:nvSpPr>
              <p:spPr>
                <a:xfrm>
                  <a:off x="5475600" y="36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1"/>
              <p:cNvSpPr/>
              <p:nvPr/>
            </p:nvSpPr>
            <p:spPr>
              <a:xfrm>
                <a:off x="5690160" y="27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2"/>
            <p:cNvGrpSpPr/>
            <p:nvPr/>
          </p:nvGrpSpPr>
          <p:grpSpPr>
            <a:xfrm>
              <a:off x="7157880" y="2784600"/>
              <a:ext cx="1985040" cy="1624320"/>
              <a:chOff x="7157880" y="2784600"/>
              <a:chExt cx="1985040" cy="1624320"/>
            </a:xfrm>
          </p:grpSpPr>
          <p:grpSp>
            <p:nvGrpSpPr>
              <p:cNvPr id="165" name="Group 23"/>
              <p:cNvGrpSpPr/>
              <p:nvPr/>
            </p:nvGrpSpPr>
            <p:grpSpPr>
              <a:xfrm>
                <a:off x="7157880" y="2877480"/>
                <a:ext cx="1774080" cy="1531440"/>
                <a:chOff x="7157880" y="2877480"/>
                <a:chExt cx="1774080" cy="1531440"/>
              </a:xfrm>
            </p:grpSpPr>
            <p:sp>
              <p:nvSpPr>
                <p:cNvPr id="166" name="Rectangle 24"/>
                <p:cNvSpPr/>
                <p:nvPr/>
              </p:nvSpPr>
              <p:spPr>
                <a:xfrm>
                  <a:off x="7157880" y="29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25"/>
                <p:cNvSpPr/>
                <p:nvPr/>
              </p:nvSpPr>
              <p:spPr>
                <a:xfrm>
                  <a:off x="8062920" y="28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26"/>
                <p:cNvSpPr/>
                <p:nvPr/>
              </p:nvSpPr>
              <p:spPr>
                <a:xfrm>
                  <a:off x="7193520" y="36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27"/>
              <p:cNvSpPr/>
              <p:nvPr/>
            </p:nvSpPr>
            <p:spPr>
              <a:xfrm>
                <a:off x="7401240" y="27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4"/>
          <p:cNvGrpSpPr/>
          <p:nvPr/>
        </p:nvGrpSpPr>
        <p:grpSpPr>
          <a:xfrm>
            <a:off x="4716360" y="4797360"/>
            <a:ext cx="1902960" cy="1563840"/>
            <a:chOff x="4716360" y="4797360"/>
            <a:chExt cx="1902960" cy="1563840"/>
          </a:xfrm>
        </p:grpSpPr>
        <p:grpSp>
          <p:nvGrpSpPr>
            <p:cNvPr id="171" name="Group 5"/>
            <p:cNvGrpSpPr/>
            <p:nvPr/>
          </p:nvGrpSpPr>
          <p:grpSpPr>
            <a:xfrm>
              <a:off x="4716360" y="4797360"/>
              <a:ext cx="1752120" cy="1527120"/>
              <a:chOff x="4716360" y="4797360"/>
              <a:chExt cx="1752120" cy="1527120"/>
            </a:xfrm>
          </p:grpSpPr>
          <p:sp>
            <p:nvSpPr>
              <p:cNvPr id="172" name="Rectangle 6"/>
              <p:cNvSpPr/>
              <p:nvPr/>
            </p:nvSpPr>
            <p:spPr>
              <a:xfrm>
                <a:off x="4716360" y="4835880"/>
                <a:ext cx="1737720" cy="148860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5599080" y="4797360"/>
                <a:ext cx="0" cy="148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8"/>
              <p:cNvSpPr/>
              <p:nvPr/>
            </p:nvSpPr>
            <p:spPr>
              <a:xfrm>
                <a:off x="4729680" y="5541840"/>
                <a:ext cx="1738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9"/>
            <p:cNvSpPr/>
            <p:nvPr/>
          </p:nvSpPr>
          <p:spPr>
            <a:xfrm>
              <a:off x="4879440" y="4804200"/>
              <a:ext cx="1739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乐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拼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0920" y="778320"/>
            <a:ext cx="3205800" cy="1434600"/>
            <a:chOff x="250920" y="778320"/>
            <a:chExt cx="3205800" cy="1434600"/>
          </a:xfrm>
        </p:grpSpPr>
        <p:pic>
          <p:nvPicPr>
            <p:cNvPr id="179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22953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 rot="21033600">
              <a:off x="900000" y="98064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连一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3"/>
          <a:srcRect l="18916" t="21713" r="0" b="48215"/>
          <a:stretch/>
        </p:blipFill>
        <p:spPr>
          <a:xfrm>
            <a:off x="1619280" y="1197000"/>
            <a:ext cx="6769080" cy="4390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2124000" y="3213000"/>
            <a:ext cx="432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56000" y="2637000"/>
            <a:ext cx="0" cy="57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56000" y="2276640"/>
            <a:ext cx="576000" cy="358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32000" y="2133720"/>
            <a:ext cx="64800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0480"/>
            <a:ext cx="71928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56000" y="1844640"/>
            <a:ext cx="576360" cy="285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1841400"/>
            <a:ext cx="57636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32360" y="1844640"/>
            <a:ext cx="64764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346480"/>
            <a:ext cx="57636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778120"/>
            <a:ext cx="504720" cy="579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3354480"/>
            <a:ext cx="35892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3786120"/>
            <a:ext cx="433440" cy="147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372360" y="4220640"/>
            <a:ext cx="1008000" cy="7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2000" y="4292640"/>
            <a:ext cx="43164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11640" y="3933720"/>
            <a:ext cx="14436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3645000"/>
            <a:ext cx="93492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3500280"/>
            <a:ext cx="7207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350028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067280" y="3500280"/>
            <a:ext cx="217440" cy="72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3933720"/>
            <a:ext cx="576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573360"/>
            <a:ext cx="358560" cy="36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0" t="46467" r="0" b="31441"/>
          <a:stretch/>
        </p:blipFill>
        <p:spPr>
          <a:xfrm>
            <a:off x="-252360" y="765000"/>
            <a:ext cx="9720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468360" y="1413000"/>
            <a:ext cx="2333520" cy="1960560"/>
            <a:chOff x="468360" y="1413000"/>
            <a:chExt cx="2333520" cy="1960560"/>
          </a:xfrm>
        </p:grpSpPr>
        <p:sp>
          <p:nvSpPr>
            <p:cNvPr id="207" name="七角星 1"/>
            <p:cNvSpPr/>
            <p:nvPr/>
          </p:nvSpPr>
          <p:spPr>
            <a:xfrm>
              <a:off x="468360" y="1413000"/>
              <a:ext cx="113832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七角星 5"/>
            <p:cNvSpPr/>
            <p:nvPr/>
          </p:nvSpPr>
          <p:spPr>
            <a:xfrm>
              <a:off x="1692360" y="1484280"/>
              <a:ext cx="1109520" cy="9334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燕尾形 19"/>
            <p:cNvSpPr/>
            <p:nvPr/>
          </p:nvSpPr>
          <p:spPr>
            <a:xfrm rot="5400000">
              <a:off x="114336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291672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比一比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276720" y="1413000"/>
            <a:ext cx="2355840" cy="1960560"/>
            <a:chOff x="3276720" y="1413000"/>
            <a:chExt cx="2355840" cy="1960560"/>
          </a:xfrm>
        </p:grpSpPr>
        <p:sp>
          <p:nvSpPr>
            <p:cNvPr id="213" name="七角星 6"/>
            <p:cNvSpPr/>
            <p:nvPr/>
          </p:nvSpPr>
          <p:spPr>
            <a:xfrm>
              <a:off x="3276720" y="1413000"/>
              <a:ext cx="1170000" cy="9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七角星 7"/>
            <p:cNvSpPr/>
            <p:nvPr/>
          </p:nvSpPr>
          <p:spPr>
            <a:xfrm>
              <a:off x="4572000" y="1413000"/>
              <a:ext cx="106056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3"/>
            <p:cNvSpPr/>
            <p:nvPr/>
          </p:nvSpPr>
          <p:spPr>
            <a:xfrm rot="5400000">
              <a:off x="387864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84720" y="1341360"/>
            <a:ext cx="2443320" cy="1959120"/>
            <a:chOff x="6084720" y="1341360"/>
            <a:chExt cx="2443320" cy="1959120"/>
          </a:xfrm>
        </p:grpSpPr>
        <p:sp>
          <p:nvSpPr>
            <p:cNvPr id="217" name="七角星 8"/>
            <p:cNvSpPr/>
            <p:nvPr/>
          </p:nvSpPr>
          <p:spPr>
            <a:xfrm>
              <a:off x="6084720" y="1341360"/>
              <a:ext cx="120204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七角星 9"/>
            <p:cNvSpPr/>
            <p:nvPr/>
          </p:nvSpPr>
          <p:spPr>
            <a:xfrm>
              <a:off x="7451640" y="1341360"/>
              <a:ext cx="107640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燕尾形 18"/>
            <p:cNvSpPr/>
            <p:nvPr/>
          </p:nvSpPr>
          <p:spPr>
            <a:xfrm rot="5400000">
              <a:off x="6831360" y="2248560"/>
              <a:ext cx="1023840" cy="107964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763640" y="33577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á  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3500280"/>
            <a:ext cx="1944720" cy="64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284640"/>
            <a:ext cx="2305080" cy="825120"/>
            <a:chOff x="5724360" y="3284640"/>
            <a:chExt cx="2305080" cy="825120"/>
          </a:xfrm>
        </p:grpSpPr>
        <p:sp>
          <p:nvSpPr>
            <p:cNvPr id="223" name=""/>
            <p:cNvSpPr/>
            <p:nvPr/>
          </p:nvSpPr>
          <p:spPr>
            <a:xfrm>
              <a:off x="5724360" y="328464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ǎ  b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24360" y="3429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63640" y="4581360"/>
            <a:ext cx="2232000" cy="719280"/>
            <a:chOff x="1763640" y="4581360"/>
            <a:chExt cx="2232000" cy="719280"/>
          </a:xfrm>
        </p:grpSpPr>
        <p:sp>
          <p:nvSpPr>
            <p:cNvPr id="226" name=""/>
            <p:cNvSpPr/>
            <p:nvPr/>
          </p:nvSpPr>
          <p:spPr>
            <a:xfrm>
              <a:off x="1835280" y="4581360"/>
              <a:ext cx="21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pù  b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3640" y="4653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24360" y="4437000"/>
            <a:ext cx="2305080" cy="825120"/>
            <a:chOff x="5724360" y="4437000"/>
            <a:chExt cx="2305080" cy="825120"/>
          </a:xfrm>
        </p:grpSpPr>
        <p:sp>
          <p:nvSpPr>
            <p:cNvPr id="229" name=""/>
            <p:cNvSpPr/>
            <p:nvPr/>
          </p:nvSpPr>
          <p:spPr>
            <a:xfrm>
              <a:off x="5724360" y="443700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gē  q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4360" y="4581360"/>
              <a:ext cx="1944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692360" y="5589720"/>
            <a:ext cx="1944720" cy="825120"/>
            <a:chOff x="1692360" y="5589720"/>
            <a:chExt cx="1944720" cy="825120"/>
          </a:xfrm>
        </p:grpSpPr>
        <p:sp>
          <p:nvSpPr>
            <p:cNvPr id="232" name=""/>
            <p:cNvSpPr/>
            <p:nvPr/>
          </p:nvSpPr>
          <p:spPr>
            <a:xfrm>
              <a:off x="1908000" y="5589720"/>
              <a:ext cx="158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fǔ  z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2360" y="573408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796000" y="5589720"/>
            <a:ext cx="2376360" cy="825120"/>
            <a:chOff x="5796000" y="5589720"/>
            <a:chExt cx="2376360" cy="825120"/>
          </a:xfrm>
        </p:grpSpPr>
        <p:sp>
          <p:nvSpPr>
            <p:cNvPr id="235" name=""/>
            <p:cNvSpPr/>
            <p:nvPr/>
          </p:nvSpPr>
          <p:spPr>
            <a:xfrm>
              <a:off x="5867280" y="558972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ì  t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6000" y="5661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57120" y="0"/>
            <a:ext cx="9501120" cy="7345440"/>
            <a:chOff x="-357120" y="0"/>
            <a:chExt cx="9501120" cy="7345440"/>
          </a:xfrm>
        </p:grpSpPr>
        <p:pic>
          <p:nvPicPr>
            <p:cNvPr id="238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-357120" y="0"/>
              <a:ext cx="950112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95280" y="4079880"/>
              <a:ext cx="2079720" cy="20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椭圆形标注 9"/>
          <p:cNvSpPr/>
          <p:nvPr/>
        </p:nvSpPr>
        <p:spPr>
          <a:xfrm>
            <a:off x="914400" y="711360"/>
            <a:ext cx="3944880" cy="1268280"/>
          </a:xfrm>
          <a:prstGeom prst="wedgeEllipseCallout">
            <a:avLst>
              <a:gd name="adj1" fmla="val -48231"/>
              <a:gd name="adj2" fmla="val 95305"/>
            </a:avLst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一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258920" y="2565360"/>
            <a:ext cx="7885080" cy="1655640"/>
            <a:chOff x="1258920" y="2565360"/>
            <a:chExt cx="7885080" cy="1655640"/>
          </a:xfrm>
        </p:grpSpPr>
        <p:sp>
          <p:nvSpPr>
            <p:cNvPr id="242" name=""/>
            <p:cNvSpPr/>
            <p:nvPr/>
          </p:nvSpPr>
          <p:spPr>
            <a:xfrm>
              <a:off x="1260360" y="256536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hē chá     dú shū    chī xī gu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tuō  dì       lǐ  fà      cā  zhuō  z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892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6400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58920" y="3500280"/>
              <a:ext cx="1728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64000" y="357336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24360" y="263700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4360" y="357336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7T16:43:22Z</dcterms:created>
  <dc:creator/>
  <dc:description/>
  <cp:keywords/>
  <dc:language>en-US</dc:language>
  <cp:lastModifiedBy>User</cp:lastModifiedBy>
  <dcterms:modified xsi:type="dcterms:W3CDTF">2016-10-05T13:22:24Z</dcterms:modified>
  <cp:revision>9</cp:revision>
  <dc:subject>课件</dc:subject>
  <dc:title>幻灯片 1</dc:title>
</cp:coreProperties>
</file>